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projctor.wav" ContentType="audio/x-wav"/>
  <Override PartName="/ppt/media/ricochet.wav" ContentType="audio/x-wav"/>
  <Override PartName="/ppt/media/lase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03E-AABE-4D9B-A35A-C892C544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E31-D024-420B-84F3-4A0EEA4D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C77-705C-4C03-B612-F753E77F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389-3B64-4C21-9B70-192CC2BE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23-0776-4421-8A87-A3150019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D13-335B-42E5-8A6F-70FD51F7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8A9-CBD5-4659-94CB-EBA4831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0A5-25C7-4AC1-804F-990DC5B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2AD-8138-4E97-8EFE-77EE0CC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8D8-2A31-45CA-9329-0155C66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014-39DA-4DBD-B463-BD1472E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601-ABF4-4244-B963-5643548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C104-CF49-439E-870E-6BDCC23D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rojctor.wav"/><Relationship Id="rId10" Type="http://schemas.openxmlformats.org/officeDocument/2006/relationships/audio" Target="../media/lzipup01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aser.wav"/><Relationship Id="rId15" Type="http://schemas.openxmlformats.org/officeDocument/2006/relationships/audio" Target="../media/projcto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lzipup01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lase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projctor.wav"/><Relationship Id="rId12" Type="http://schemas.openxmlformats.org/officeDocument/2006/relationships/audio" Target="../media/lzipup01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lase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143000"/>
            <a:ext cx="6400800" cy="1556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ddle number in a group of numbers when the numbers are in order from smallest to larg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8620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657600"/>
            <a:ext cx="64008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umber that appears the most often in a group of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8,   7,   6,   9,   11,   5,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362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2362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7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8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3623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9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2362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743200" y="2362320"/>
            <a:ext cx="685800" cy="68580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419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66880" y="4343400"/>
                <a:ext cx="9511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0,   14,   13,   10,   11,  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3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2362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95480" y="3962520"/>
                <a:ext cx="1289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08200" y="5105520"/>
                <a:ext cx="12225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335268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2971800"/>
                <a:ext cx="1752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781680" y="2971800"/>
                <a:ext cx="12528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15400" y="3352680"/>
                <a:ext cx="112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4,   5,   3,   4,   5,   5,   4,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160020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38400" y="3962520"/>
                <a:ext cx="1001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3200" y="5127480"/>
                <a:ext cx="9507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V="1">
            <a:off x="320040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216400" y="2971800"/>
                <a:ext cx="13780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629400" y="2971800"/>
                <a:ext cx="9604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696080" y="3429000"/>
                <a:ext cx="878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3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5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.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edian, and mode of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996600"/>
              </a:buClr>
              <a:buSzPct val="12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9,   6,   4,   21,   2,   11,   18,  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2209680"/>
            <a:ext cx="3352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Write the numbers in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038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95480" y="3938760"/>
                <a:ext cx="1287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219320" y="5181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30520" y="5127480"/>
                <a:ext cx="117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3200400" y="28191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32520" y="3048120"/>
                <a:ext cx="154620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629400" y="3048120"/>
                <a:ext cx="125244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48720" y="3505320"/>
                <a:ext cx="11286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0666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4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2362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9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362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8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15, 8 – 11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01-24T15:04:17Z</dcterms:modified>
  <cp:revision>80</cp:revision>
  <dc:subject/>
  <dc:title>PowerPoint Presentation</dc:title>
</cp:coreProperties>
</file>